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4F8-293A-4225-8FD9-ADC749C8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F41-873E-424F-A0A9-99C7D6A5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C84-2BB4-485F-94EC-8F06EE3A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A2F-69B6-4DF6-8778-212C4C4E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782-E638-42E1-B14B-D1FDD43A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BE8-A9BA-414E-9540-CBDD6156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4C4-1C49-44FE-BEAF-5E431E75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B79-74C7-4879-A67E-FAD46C92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ECA-A959-450A-83CF-589AE384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4F1-33B7-4AD1-AA55-8CD0E17B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A8F-1A1D-4752-9122-BC288B20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FA1-CAD8-4B16-AECE-005FD13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8105-1FD8-46A1-87AB-CF21322E972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219320"/>
            <a:ext cx="7773840" cy="1440"/>
          </a:xfrm>
          <a:custGeom>
            <a:avLst/>
            <a:gdLst/>
            <a:ahLst/>
            <a:rect l="l" t="t" r="r" b="b"/>
            <a:pathLst>
              <a:path w="4897" h="1">
                <a:moveTo>
                  <a:pt x="0" y="0"/>
                </a:moveTo>
                <a:lnTo>
                  <a:pt x="4896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14600" y="1067040"/>
            <a:ext cx="40384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ugestaltung Tarifrecht öffentlicher 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001000" y="5943600"/>
          <a:ext cx="5461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943600"/>
                    <a:ext cx="546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rifvertrag zur Überleitung der Beschäftigten im öffentlichen Diens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rag Kurt Mart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handlungskommission 10. Juni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AC2-6C06-4BD2-8AAD-94EAE5A9101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 -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 Tarifrun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inderzuschläge für alle bis zum 31.12.2005 geborenen Kinder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 Redaktionsverhandlung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ynamisierte Zah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estlegung unschädlicher Unterbrech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ahlung für übernommen Auszubildende, SchülerInnen, PraktikantI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bfindung ab vollendeten 16. Lebensjahr mög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FAB-EFEA-4241-82D5-CA6822B418B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gütungsgruppenzulag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Forderung ver.d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gütungsgruppenzulagen werden auch zukünftig gezahlt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Forderung Arbeitgeb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eine Zahlungen me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ließen in das Vergleichsentgelt e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ahlung nur für EG 3, 5, 6, 8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unter bestimmten Voraussetzung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F98-0893-4D66-A977-B5E6409128F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gütungsgruppenzulage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itzstandzulage für alle die derzeit Zulage erhal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hne vorausgehenden Fallgruppenaufstieg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hlung erfolgt zum individuellen Zeitpunkt wenn Hälfte der Zeit erfül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 Anschluss an Fallgruppenaufstie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lgruppenaufstieg noch nicht erfolg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ächsthöhere EG zum individuellen Zeitpunkt wenn Hälfte der Zeit erfüllt - Keine Zulage me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lgruppenaufstieg bereits erfolg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ulage zum individuellen Zeitpunkt wenn Hälfte der Gesamtzeit erfül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219-2132-4250-BA86-EEAD599C365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ückfallkla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ver.di-Forder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fallklausel für den Fall, dass keine neue Entgeltordnung bis zum 31.12.2007 verhandelt 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gefallene Bewährungsaufstiege werden für alle ab 1.10.2007 nachgeholt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Arbeitgeber-Fo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leichwertigkeit der Gegenfo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ternativ: 60 % Jahressonderzahlung für alle,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gfall Strukturausgleich oder Verschiebung der Tarifrunde um 2 Jahre (Ab 1.1.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56F-8C68-4792-B0C0-33C5874348E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ückfallklausel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zicht auf Rückfallklau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303-D836-457F-BDD4-F71F3119D31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ene 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ückfallebene Bereitschaftsz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malzahlung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ch nicht endverhandelte Themen aus B4 und 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r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tszeitkorr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e Einspa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ausgleiche KR - wird heute verhand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1C6-2AA2-46CF-B951-EFDDFD0B6BB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s Vorge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Redaktionstermine vereinba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4.06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aktion TV öD - allgemeiner Abschnit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Arbeit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.06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e Lenkungsgruppe - Klä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fener 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.06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V-N Abstimmungsproz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TK-Term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3. - 15.09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5. - 07.09. 2005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bhängig von Bundestags-Wa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FBC-C49C-4643-9E49-A2F9EB8724B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tzung der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erhandlungskommission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10. Juni 2005 - Berlin -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6400800" cy="13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CA1-7614-49A6-9CBB-BDC98BCB595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Überblick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VöD-Ord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bisher vorliegenden Texte zum TV-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aktionsverhandlungen TVöD haben am 07.06. 2005 bego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iederung TVöD unter Punkt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änzung nach Abschluss der Redaktionsverhandlungen notwend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 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V-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ukturausgleiche, us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cheinung: ca. 3 Woc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0CF-0CA6-4B0A-A5EE-1C5DBA8C9C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rifrunde 2005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igung über neues Tarifre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malzahl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jährige 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Stufensteigerung ab 01.10.2007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nahme: ArbeiterI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363-5BD2-4F0A-8D73-0F7C36942D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zen über Inhalt der Vereinbarung v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Februar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uche der Arbeitgeber zusätzliche Einsparungen zu realisie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D2B-6206-4B27-B0BE-5AB26D5461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</a:t>
            </a:r>
            <a:br>
              <a:rPr sz="20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- Bewährungsaufstie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 3, 5, 6, 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ährungsaufstiege sind nicht eingearbei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öhergruppierung erfolgt zum individuellen Zeitpunkt, wenn Bewährung zur Hälfte erfül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 2, 9 - 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ährungsaufstiege sind eingearbei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eib in den jeweiligen E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Bewährungsaufstieg bei Überleitung noch nicht vollzo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teilsausgleichsregelung erforderlich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0E2-B00A-4094-B92C-DF21C452F6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sition Arbeitge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atorium Bestandteil der Gesamteinig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: Lösung nur mit Kompen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KA: Keine Änderung weg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zu hoher Kost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ND: „Paket-Angebot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ffnung Morato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ücknahme der „Stufe-3-Regelun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30E-7AA8-40F0-9211-798F310E6C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I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scheidung Lenkungsgruppe am 31.5. / 1.6.2005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 des Paket-Angeb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forderung an VKA: Gleiche Rege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nahme durch VKA am späten Abend des 1.6.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B6D-B5D4-4764-BD69-5936162710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ver.di-Ford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ierte 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alle bis zum 31.12.2005 geborenen K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ientierung an Anspruchsvoraussetzungen Kindergeld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3F0-386A-433C-BEDC-B65E0DDFA48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rbeitgeber-Ford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dynamisierte 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für ununterbrochene Zahlung Kinder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alle übergeleiteten Beschäftigten und deren Kinder die bis zum 31.12.2005 gebor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findungsmög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741-22B5-4B97-9F29-D40926E48BB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5:27:28Z</dcterms:created>
  <dc:creator>Niko Stumpfögger Ressort 1</dc:creator>
  <dc:description/>
  <dc:language>en-US</dc:language>
  <cp:lastModifiedBy>deraabe</cp:lastModifiedBy>
  <cp:lastPrinted>2005-06-09T15:17:27Z</cp:lastPrinted>
  <dcterms:modified xsi:type="dcterms:W3CDTF">2005-06-09T15:51:26Z</dcterms:modified>
  <cp:revision>189</cp:revision>
  <dc:subject/>
  <dc:title>Wozu der Kongress?</dc:title>
</cp:coreProperties>
</file>